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6490-9827-489B-9C78-452BEE3A5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A2CE-7265-47BC-BC58-A21F2B88E905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FFE6D-2187-4FF9-8408-1CBF4A69D5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05066-D032-44F9-ACDE-4F5B06ABEF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CFACE-769E-45CF-806B-779200977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6ED0C-4426-4AEF-A327-CC258E0776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F2B97-34FA-46B2-9D2F-B18BC5AF6F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A32B9-1508-42DF-A679-EE3D80B829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25915-8022-4107-9DF5-D12E9A0C4F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A68BD-5BA0-4697-B37C-1EA1A5CDF1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B973B-709A-418F-A4ED-72526D881E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BB470-A00C-45FA-A02D-556C56ED61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26B40-E4C8-48E7-B8D5-CA99EFA9A0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D2646-6972-4036-A36D-2D006C57B7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7D76-E6C7-43B3-B311-2D33B7CFABC6}" type="slidenum"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r>
              <a:rPr b="0" lang="sr-Latn-CS" sz="2400" spc="-1" strike="noStrike">
                <a:solidFill>
                  <a:srgbClr val="4d4d4d"/>
                </a:solidFill>
                <a:latin typeface="Times New Roman"/>
              </a:rPr>
              <a:t> od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36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UPRAVLJANJE PROJEKTIMA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6227640" y="5734080"/>
            <a:ext cx="2737080" cy="338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februar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286240" y="4611600"/>
            <a:ext cx="323712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126B-E840-4EFC-BA23-4CC0459DA568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oject Manag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tručnjak koji upravlja projektima naziva se </a:t>
            </a: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Project Manager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d njega se očekuje da pored poznavanja tehnologije izvođenja građevinskih radova, razvije i primenjuje sopstvenu tehnologiju upravljanja gradilišta.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7CC6-8471-4556-B4F6-0C21CBC8BE86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Zaključak</a:t>
            </a: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ima je bitno jer 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Smanjuje troškove građenja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Smanjuje period izgradnj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ovećava kvalitet gradnj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ovećava profi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bog toga je upravljanje projektima jedan bitan deo u oblasti građevinarstva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BDDD-7935-472B-AA3A-8D741C87BED0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764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egled Izlaganja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6480" y="2276280"/>
            <a:ext cx="7643520" cy="39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a je Projekat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blemi u realizaciji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incip upravljan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jekt Manadžer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80EA-23B8-4DEA-8195-3CABAF27B89E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Šta je Projekat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jekat koji za cilj ima izgradnju i opremanje građevinskog objekta naziva se </a:t>
            </a:r>
            <a:r>
              <a:rPr b="1" lang="sr-Latn-CS" sz="2800" spc="-1" strike="noStrike" u="sng">
                <a:solidFill>
                  <a:srgbClr val="292929"/>
                </a:solidFill>
                <a:uFillTx/>
                <a:latin typeface="Arial"/>
              </a:rPr>
              <a:t>građevinski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ili češće </a:t>
            </a:r>
            <a:r>
              <a:rPr b="1" lang="sr-Latn-CS" sz="2800" spc="-1" strike="noStrike" u="sng">
                <a:solidFill>
                  <a:srgbClr val="292929"/>
                </a:solidFill>
                <a:uFillTx/>
                <a:latin typeface="Arial"/>
              </a:rPr>
              <a:t>investicioni projekat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avisno od veličine objekta, projekti mogu biti manje ili više obimni ali bez obzira na to projekti su kompleksni tehničko-tehnološki, organizacioni, finanskijski i pravni procesi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0680-AA43-4F9F-88A6-963D87552BF4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1773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oblemi u realizaciji projekt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6920" y="2349360"/>
            <a:ext cx="764388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remenski uslovi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Inflacije, cene materijala i potrebština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ratki rokovi građenja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esuglasice oko ugovora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187280" y="4581360"/>
            <a:ext cx="7561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bog ovih a i mnogih drugih problema postoji  potreba za sistemom upravljanja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8A0E-29FC-4AC8-996A-84FB694C7B9D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403280" y="270828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Upravljanje projektom je slo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žen i odgovoran posao organizacije građevinskog projekt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moću sistema upravljanja, projekat se realizuje na ekonomičan, kvalitetan, brz i efikasan način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om je bitan faktor svakog građenja koji na “pametan” način olakšava proces realizacij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3A2E-E05C-4007-8987-E50753A39660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403280" y="270828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aki projekat mora da ima upravaljački podsistem koji definiše: plan, ciljeve, politiku, strategiju, organizaciju, donosi odluke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Planom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se definiše skup određenih aktivnosti, njihovih međuzavisnosti, trajanja istih i potrebnih resursa i sredstava za njihovo izvršenje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Cilj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definiše stanje posistema koje se želi postići (realizacija projekta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9413-4192-4BDE-8630-86807EB6891E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187280" y="2421000"/>
            <a:ext cx="7705800" cy="43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aki upravljački podsistem mora da upravlja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bimom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remenom (“Vreme je novac”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Troškovim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valitet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abavk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Rizik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7280" y="1773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4B5F-8AFE-4C4D-A05F-45B339205EF5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ima je veoma složen i komplikovan posao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Treba imati u vidu da obaveze svakog pojedinca koji učestvuje u projektu moraju biti jasno definisan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pr. gradilište sa par stotina radnika i velikim obimom posl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187280" y="1773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4819-A870-4218-8B41-FAD374F17F6E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1640" y="1915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incip Upravljanj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71280" y="2492280"/>
            <a:ext cx="78483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4d4d4d"/>
                </a:solidFill>
                <a:latin typeface="Arial"/>
              </a:rPr>
              <a:t>U realizaciji svakog projekta dolazi do komplikacija koje utiču na tok realizacije. Zato svaki projekat mora da ima sistem kontrole koji se sastoji od: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rocene (planiranja) onog što će se dogoditi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Uvida u stvarno stanje radova (monitoring)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oređenje planiranog i ostvarenog 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reduzimanje akcije za minimizaciju odstupanja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</dc:creator>
  <dc:description/>
  <dc:language>en-US</dc:language>
  <cp:lastModifiedBy>HOME</cp:lastModifiedBy>
  <dcterms:modified xsi:type="dcterms:W3CDTF">2008-02-02T11:02:31Z</dcterms:modified>
  <cp:revision>15</cp:revision>
  <dc:subject>upravaljanje projektima</dc:subject>
  <dc:title>UPRAVLJANJE PROJEKTI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